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2A6D87-F115-4246-8335-4AC145AC89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94A141-C713-48A8-8749-A968A9380D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308913-1983-4402-A8F5-4F9DAE3C07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CD6DDF-5073-44FC-AF97-90C6F4BDB4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DA3772D-C8BB-4DCA-B36C-94D3E713C9E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0FF2F6-2B23-4400-BA44-D15537E709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526D98-A208-4CDD-891D-459128BEB4F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84A236-5E01-41A9-930C-2B0E154297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C5EC4D-3282-4673-9B37-1A15FA719B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006A1E-2036-4422-9AFA-5CDF2F2B46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E37C8E-ADF6-4327-8722-71EC34B0F2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AF53EE-C38D-4251-B556-BA5DA1E472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CFD21F-F732-4F12-A53C-CD4004BE3F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48DCAE-273C-48FE-93D5-2220D68FDD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19FAFC-039A-4388-8D4B-2ECEEB78BF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6BF87BE-F09E-41E0-9515-B1640418860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647EB23-B70D-4661-94DB-ECFF58D48E7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920654-0122-45B4-96D5-C7C04F05B7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6FE789-C2F9-49CE-86AC-2504678B86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2A4BA9-1FEC-4AF9-B726-D2B64B8CF3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98A796-0DC9-4AEB-9E5F-B7C8374019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5148BF-CCA0-434C-A00B-9C176390ED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82919F-BE2F-42AE-BB31-12981DFFF7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FBAB1C-051F-4CFA-9BCD-7121B1053AA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AB7EF7-AB57-4A22-9E6E-38FC8B60DA7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34ABD2-6ED2-4157-8F3A-24C4BB1CDD7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1712809-D7D9-4936-8856-64B2D37AA51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B0D476C-D813-4E22-984B-DC87C9C65DF6}"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F3098A-7B26-4189-948B-4729E85D6496}"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4B1ABE-8A10-434B-8D93-99D45EEA818E}"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AE5E8D-E2FA-4DA3-8127-5D6CB9B4D721}"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9828AF-9BDF-46B5-9188-71C5A5E043A3}"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F4FE58-0E2D-4269-A240-4CC532AE4974}"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DE20A7-0B96-4F6B-BD7B-9783CDA86A97}"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2572EF-85ED-41AF-B655-B1E8DB03E577}"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238B5C-49AB-4930-9A11-86EC5EAEB950}"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3EB835-0A0A-4B4B-BAD1-4D92547DD7D3}"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2FA6BD-A173-47AF-BD47-3B27AF5F5F15}"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7BA1D7-9B7E-4556-82A5-95690E3F7F38}"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693EED-1E74-48E5-87CA-DD3B847B28F0}"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FA6858-3B51-4064-9292-21E23DF91EB4}"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73DC30-0263-4C7D-8586-FAD608594065}"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4CF3CF-2097-411B-9D64-B9CA9B53800A}"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15C45C-F0CD-4A8F-8F49-72479D85D1F9}"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644A5A-340A-4F75-929F-7898FF90282F}"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02805C-F739-4836-AE52-E70779950687}"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07A31C-6D69-4B4D-9D2F-D3DB4066701C}"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191C67-BB7B-4A95-93DE-A34E81EB7BEC}"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6D2F02-204A-4495-9883-4C6A9685EFD6}"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618E00-E44A-483A-9A56-A55F0E11E38E}"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FD9D96-636C-4D2F-8C08-EA7C9AA611C9}"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F4A56B-AEAA-4652-8FDE-F395D7477205}"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42A0CF-F62D-436A-BB6B-55784BE06C0C}"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574205F-B536-4C39-AAEC-C675869DDEF0}"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8FBB2C-10EC-4A5A-A118-3E90B0652C48}"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44E1B2-9B72-4D3F-8EFF-69CA79A7C5F4}"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946C18-4DF9-47AA-9FED-BC76A9E01E17}"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B08712-1DDB-4E11-8F7D-2FF9D2C9479C}"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8237AF-3DEC-4CEE-BDAC-0BA04B220C05}"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24489C-57BD-4B15-ACB7-C5F57D24DFB0}"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244E9B-F2DA-45FD-84F1-D113B9165558}"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E85DC8-B712-4357-B25E-13B33D5E07B2}"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F3135C-E3BB-4EE6-A61D-22080528D6C5}"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5CB2DE-F954-4F84-BEEE-FEB94A839C95}"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EDA78C-A42C-41A4-AB73-B856E0D27449}"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EB9465-C208-4EA6-95B1-50EF577E62E1}"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6D23B0-5620-47EA-8E53-4FE978030616}"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4582F8-9BD7-4042-866F-D6F9CFB0312F}"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DA94A5-1E7D-4481-9C4E-CB4ADB7F93DE}"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915DAF-114D-4205-B4C9-DD4246F945DB}"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B0A984-740A-4CCC-B16C-587A7EE1C480}"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161935-12E8-496D-88AD-B65AE3114C60}"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BEFA6C-A60E-41FF-8073-388AC2EFC00C}"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1CF5FD-AC0D-4A5D-842F-66220E7164A6}"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BDB92FD-007F-4DF8-82C0-ACCF4595E118}"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5F46B9-09BB-46EB-8A7B-A026B7CEEA97}"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07CE81-4594-4C86-8C70-5AF9199B16E4}"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1E5257C-3FF2-40F3-BDB9-797171FED0DB}"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50DFEF-6897-4444-922B-6E53AC959604}"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DBDEC1-E928-422F-9343-8E3C113EB2BA}"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FCD1DF-648D-4E07-B196-B781BA89FA02}"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EF85AC-FD6B-4958-8070-F5A229A6E241}"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DF50B1-6B3A-45F4-BC75-F3DB546782FE}"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C63FF6-E8FE-41CC-B197-51BD04FB1A04}"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7572C6-8C5F-4CAC-923B-3F692DAA3B14}"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5E9107E-D40E-4EE6-89E5-8129A3023EFE}"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78E28F-5337-44B3-9F8F-1791B66D127C}"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790B2B-264F-4E96-AD44-01617E886FD8}"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F754EE-3534-4F9C-B4A0-55CCE475D785}"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1656EF-D824-44AB-93D5-06659CA890E9}"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D8F113-ABAC-4D6C-931D-27BF67F98FDC}"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D7EF8A2-6240-4CA1-8C4B-1007AE0348D4}"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3E74E1-16F9-495B-8944-192D991C0C9E}"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821796-9A3E-4D37-B08E-71B634A4277C}"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F5CCA7-A0EE-45E4-98A5-A09CCC1F64F3}"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E5C028-CA34-4670-8518-BC2E75D13C42}"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16D59FA-CE39-48C9-9A65-1D95A7F7AF8F}"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715AD6-2F35-4184-A917-39E41A98B9C8}"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349E32-E169-4E30-B67F-384F3A2095D3}"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2D8FE9-793A-4786-A5C8-C352E6511686}"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4E23AC-14EE-433C-B435-3467403CA2AF}"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95E9D4-D887-4C79-9E7F-47A19562F30C}"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A625E6-D3B3-4C13-8FA1-11620978C186}"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43360A1-97C7-4F8A-8D0F-28BAED1EB2D4}"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525544-58CB-481B-BA13-9B9B56131D8E}"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DFA46D-CEF6-414C-BEF9-CC0BD181CE7E}"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C2EE6F-B317-427B-A516-2ABBD295EF85}"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355AAC7-9F30-4C83-B817-827357FF32E3}"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43E09E-7517-41CB-86F6-DDB379099938}"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B3A7FAD-996E-4765-A127-BFEEB20E7D28}"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58A7A6-57B9-415A-96B1-348A438CD3B9}"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EF9464-D2F5-470F-B3C3-46BDB90D6C1B}"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3475FA-B512-4931-A65A-CAB2E7D250EA}"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3572A6-C78F-46B1-8FFE-4F1BFAAA57B8}"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FA33D6-C02E-48B2-A9B6-2DA656B07BAC}"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2804F3-23BC-47A2-8AF6-F3298B0487EE}"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5BF4F1-4B46-48AB-927F-7B11651FB9A7}"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E7BDC8-0CAF-4CB8-960B-C6C6C59DA72B}"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3E5CD7-589E-4632-8C7B-7A1BBDEDE48F}"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7C7CFD-C3AE-4DBF-852D-CB2FB0667BB1}"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15A214-AFFB-4911-A2D4-5DE56F68F848}"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204619-1342-44B9-B71E-6B185B7C367E}"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3B3176-AF8B-4EAA-9B2A-3ED98AE44EFF}"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C9F71A-082F-4A33-ADC4-0087BDB19CE3}"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E129A8-B8A3-4671-9320-D8508A4D3EF6}"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12F2DF5-06C2-4469-8DE8-037F4BD5E565}"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241DD5-451C-4D60-8569-0E3817281719}"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168A48-6035-4D16-A084-C7D98A151525}"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3D1C84-42E9-4603-9863-7A45775023B6}"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ABB49E-ABED-49EB-8EA6-A8006500F496}"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817B8D-1740-4CC7-A746-A2B739D5D740}"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585ED2-63EE-4829-B46F-178DBC901793}"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A1240A-1D92-4C92-8183-34575080B358}"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79F7FA-2EAC-4F27-9EE5-8CEEC872DD4B}"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C6310B-2240-4ED4-8468-AFF31D8D8A07}"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3EDDAD-891D-404C-A96D-F35FEF4A4B50}"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A1ABFA-2C4B-4042-B749-6A9D2A66C4F9}"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F41908-44A7-4BE0-98B9-674BAE93198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956E34-288E-42EF-A49C-A5E9F259D831}"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3D68FD-2651-4209-9765-9DD4199FFD3C}"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09C8F5-CEDE-483F-AB2C-2FEEF06153FA}"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A3F063-DA8A-423E-BFB8-AF981B1D5C9B}"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87A0C9-46AA-4E42-9429-AB8E10437CDC}"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5DB1CD-B70E-4449-9D62-2152BD632A00}"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89F93E-DA70-4A14-9E18-11864EB613A6}"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15F1B3-0658-4D22-B51F-C5BF79FAB17B}"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B77771-99D8-4A25-B141-91E49F61F6EA}"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B32E3B-0AF0-41EE-A660-58F26F9F8BC7}"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449848-EFD2-4BCF-A730-8AA50BBD7EF9}"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FA84AC-A81E-4EF5-A1A2-497E12DC15A4}"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4216D5-A9C5-46EB-8D89-46089974277E}"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7182AC-BD81-48E1-A1E4-F74BFD2A6CEF}"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104978-7A11-4D52-A3EA-C4C234188E20}"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802241C-65D2-4E84-8252-3B83C6E5B9C1}"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9F0F94-8466-4450-B48E-31EFC07098A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62B194-E552-4307-B86D-2D636BE7D96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18A899-CBD2-4426-B365-ECCA5D3CBC7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542755-C74D-4E50-BF26-B8D7E92E114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DC9A18-7715-4CC1-880C-358676EE4A4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BE60EC-1514-4413-B1A2-A510E16E3BF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7CBAAE4-F396-424E-8806-A5FF474F29B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727162-E22C-4EE8-A897-A7C36C6C522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E5AEFB-ADD6-4143-BDC3-56BAF0E4733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FCD2A8-5299-4E8A-A47B-B37B5A92330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825E49-4CB6-4C04-A513-23F03B7EAC7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1A4A62-E076-48D8-A2D9-4C5034B6B61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BFF682-F8B8-4FCF-9B0D-C6C769D8046B}"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A47D71-1103-4841-9761-BE6FB190E65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FCFC26-D11D-4E29-8D22-492B495024D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9FFB4A-0862-4BC0-A2D4-377E6A15868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C54374-7410-4F6E-B81A-9C6A0AEA57A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0F696E-74CE-4A5F-9478-254644B8564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220F4E-BB66-4A9E-8990-B8A38DE29DFB}"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402A7E-F519-452F-96D6-B6357E01FFD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084666-A035-4BEB-A9B8-89395DF8A56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B16786-B5C7-45E1-97F6-5DEC4402529E}"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A6248C-2A1F-4FA8-B13E-2C6593464306}"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C800B8-A469-405A-B8E5-4BD274354FAF}"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C36468-AD81-4CF4-8496-8FCB2E7AA04C}"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5718B6-2A2B-403D-830A-CE6A573074E7}"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780B2B-F0CA-4000-82FA-A9602520717D}"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27D920-0578-440D-9989-4B52CB6E3ECA}"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BCE701-1B35-4B57-B108-7BA196E5C557}"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7A3EBD-3779-4C90-8EA6-24DA35AB50EF}"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4F6F9A-F914-40A4-A1D0-25FD1DB21DAE}"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C80330-9699-4C51-A36A-729F44B31E7C}"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D86F19-719E-43F6-BFC7-46C2CBA526BC}"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297C92-0CA0-4AAE-82FE-062C0AC54EC4}"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387A6B-633D-4AB6-B1F6-E97DDB8AF64A}"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AE39D5-FF21-4FB4-946B-35D1D9B42DB0}"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B9FEE9-4201-4B04-AA65-BBEF286606B6}"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6B7ED2-2B9A-4343-9062-9FC23FDD1BE1}"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F527AC-218A-458F-973D-F9AF3ADBAE40}"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45B11F-B394-4A24-97E7-480693C0A2AC}"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44F3F7-48B9-403A-9202-CF0EFADCEA17}"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184EC8-83BF-4CAD-8309-0744799E5E71}"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89069C-E28E-49DA-ACB8-845C98FD8B4B}"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8123A8-8273-4776-AAA0-80ECF2E1E0AD}"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678861-005A-40AB-9355-A396BA3B8EF1}"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84290F-45CF-4943-8483-C6FEA99D35D5}"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D76090-2458-47CD-BAC0-E1510F849E23}"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F4A9C7A-8313-46F6-8997-131B95729773}"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9B1CCE-87C1-471B-B770-F75210A9843C}"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FC8C3E-88BB-4660-8521-C9269884F052}"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F1BA8E-253D-41E3-906D-593178BC8615}"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8C7920-6F42-4D7F-A7DF-84B412FD0FE9}"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6BFE38-66C5-4040-B576-2932C1E2C9AD}"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1A4291-F71A-48A2-B45D-6583F7A185FD}"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537117-A6DA-4A2F-B742-947D79626973}"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2F6CFD-2847-48A3-B71F-17CEEAD56999}"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68F5C07-0246-4C96-9972-4117BAC3BF23}"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D1F76F-99DE-4A02-B507-3CD64743CAB3}"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DC1F7D-1477-476C-BE0F-7B588F948FCB}"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D60A48-F3A0-470D-9A4A-FD401FD43909}"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97BEEB-DF27-4324-8E35-F5D955799DEE}"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0BD561-2384-447F-8F18-3A0B52D32CCA}"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A11A97-1B27-4451-8CB9-E29B8443DF45}"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147792-82D8-4568-9738-A7F27AFF389D}"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25DE31-C39C-4682-8373-258B43F80934}"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C9E5BA-9AB7-468B-AA80-36A43024028B}"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313ABF-EC03-4880-A6F1-45028D726D88}"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6F3CC1-48BA-4AC5-9572-C44CE6E7AE18}"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44BF12-79C0-4E12-A338-6A559173E65E}"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FD8297-A18A-49DE-99B6-A8D1527825D1}"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7CD081-E4DA-4D6C-9E21-05A371777553}"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C97FE8C-C768-42B9-B838-2C7A9EA2A042}"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556EB0-86D4-481D-AB5D-078773806938}"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771AE5-A028-4A20-89A7-2923BB786F39}"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651D5E-18A4-4554-B013-D53D924CAB06}"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686568-18C8-4FAB-AF66-AF8F08A66C16}"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DBB652-38E4-48CE-A0E7-A1FEC86E6F64}"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279257-EBF8-4C51-AB73-96A2DE939249}"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FF075C-5EF8-454E-8E24-464C9B080AEE}"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56105D-89B3-416E-A305-AA604C61D524}"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C0A130-7659-4029-8CEE-ACA2DB97B021}"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2D24B3-A218-483B-8494-CFAC0B6A33C7}"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CA5B33-E760-4951-90AC-4DAA888BC8E4}"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CE34B6-1006-493F-9E5C-0E4AD426E04D}"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D231DB-C9F7-404E-A69E-5A7B17B714CD}"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